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DB1-F10F-4577-BDBD-0B152BD0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7DE-DD99-4E77-AB3C-4BA9468A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066-E63C-410A-AF97-3DC8A866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D39-240E-44DC-8A3D-0985A225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150-BAFC-44A8-A429-4A341D04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B65-5C90-42B5-B6F8-D65CB5F2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A0C-4097-4FB8-8FDC-4D2E3BE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F9A-6EF7-4D0A-AA02-E48DB996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FAC-D21E-4333-A4D0-464D1379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003-8E48-4BF6-89B1-AD2381E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D6E-B911-4C5A-B72B-E0DD11D9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14C-5402-485E-B453-E017345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032-3FA3-4317-8D4C-65AC34FF9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io-sanatate.com/produs/despresanatate.html" TargetMode="External"/><Relationship Id="rId3" Type="http://schemas.openxmlformats.org/officeDocument/2006/relationships/hyperlink" Target="http://www.bio-sanatate.com/produs/despresanatate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600200"/>
            <a:ext cx="8305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ALIMENTAŢIA SĂNĂTOASĂ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7c8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VS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7c8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ALIMENTAŢIA NESĂNĂTOAS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7c80"/>
              </a:solidFill>
              <a:latin typeface="Bookman Old Style"/>
              <a:ea typeface="Bookman Old Style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28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ŞCOALA GENERALĂ DUMITRIŢ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JUDEŢUL BISTRIŢA-NĂSĂ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457200"/>
            <a:ext cx="74674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Sănătatea nu este totu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ar fără sănătate totul este nimi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CHOPENH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458200" cy="579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80880" y="152280"/>
            <a:ext cx="8305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Principii fundamentale de sănătate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7920" y="228600"/>
            <a:ext cx="6476760" cy="5648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-1638360" y="278100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PIRAMIDA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5900400" y="2938320"/>
            <a:ext cx="52671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ALIMENTAŢIEI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1080" y="6172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SĂNĂTOASE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57200"/>
            <a:ext cx="3581280" cy="4191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Times New Roman"/>
              </a:rPr>
              <a:t>Alimente preferat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cc0000"/>
                </a:solidFill>
                <a:latin typeface="Times New Roman"/>
              </a:rPr>
              <a:t>adolescenţi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se de tip fast-fo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psu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zelu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uturi răcori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arbogazoa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ulciur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ma de mestec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362320"/>
            <a:ext cx="3809880" cy="4190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Alimente p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ntru o via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ţ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sănătoasă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Ap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u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uc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ct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zetu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arne de pui, peş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e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48006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Boli cauzate de alimenta</a:t>
            </a:r>
            <a:r>
              <a:rPr b="1" lang="ro-RO" sz="3200" spc="-1" strike="noStrike">
                <a:solidFill>
                  <a:srgbClr val="cc0099"/>
                </a:solidFill>
                <a:latin typeface="Comic Sans MS"/>
              </a:rPr>
              <a:t>ţ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ia </a:t>
            </a:r>
            <a:r>
              <a:rPr b="1" lang="ro-RO" sz="3200" spc="-1" strike="noStrike">
                <a:solidFill>
                  <a:srgbClr val="cc0099"/>
                </a:solidFill>
                <a:latin typeface="Comic Sans MS"/>
              </a:rPr>
              <a:t>nesănătoas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990720"/>
            <a:ext cx="4724280" cy="5257800"/>
          </a:xfrm>
          <a:custGeom>
            <a:avLst/>
            <a:gdLst>
              <a:gd name="textAreaLeft" fmla="*/ 556560 w 4724280"/>
              <a:gd name="textAreaRight" fmla="*/ 4167720 w 4724280"/>
              <a:gd name="textAreaTop" fmla="*/ 556560 h 5257800"/>
              <a:gd name="textAreaBottom" fmla="*/ 4701240 h 5257800"/>
            </a:gdLst>
            <a:ahLst/>
            <a:rect l="textAreaLeft" t="textAreaTop" r="textAreaRight" b="textAreaBottom"/>
            <a:pathLst>
              <a:path w="21600" h="24039">
                <a:moveTo>
                  <a:pt x="3600" y="0"/>
                </a:moveTo>
                <a:arcTo wR="3600" hR="3600" stAng="0" swAng="5400000"/>
                <a:lnTo>
                  <a:pt x="0" y="20439"/>
                </a:lnTo>
                <a:arcTo wR="3600" hR="3600" stAng="16200000" swAng="5400000"/>
                <a:lnTo>
                  <a:pt x="18000" y="240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81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alnutriţ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hidrat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b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ezitat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c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ale rinichi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suficien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hepatic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fecţiuni cardiovascul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flux gastro-esofag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Tulburări diges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bleme dent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Obosea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4">
            <a:lum bright="20000"/>
          </a:blip>
          <a:stretch/>
        </p:blipFill>
        <p:spPr>
          <a:xfrm>
            <a:off x="152280" y="1219320"/>
            <a:ext cx="175284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6934320" y="388620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 rot="1210800">
            <a:off x="380520" y="47242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7"/>
          <a:stretch/>
        </p:blipFill>
        <p:spPr>
          <a:xfrm rot="1133400">
            <a:off x="7086600" y="121896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04920"/>
            <a:ext cx="81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ro-RO" sz="3200" spc="-1" strike="noStrike">
                <a:solidFill>
                  <a:srgbClr val="006600"/>
                </a:solidFill>
                <a:latin typeface="Comic Sans MS"/>
              </a:rPr>
              <a:t>ăsuri privind un stil de viaţă sănătos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219320"/>
            <a:ext cx="73911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limentaţie sănătoas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ul de ap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Exerciţiul fi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spectarea ritmului somn / veg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spectarea regulilor de igienă individu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Vizite medicale reg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depărtarea factorilor de ri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utun, alcool, drog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4419720"/>
            <a:ext cx="6934320" cy="2057400"/>
          </a:xfrm>
          <a:prstGeom prst="ellipse">
            <a:avLst/>
          </a:prstGeom>
          <a:gradFill rotWithShape="0">
            <a:gsLst>
              <a:gs pos="0">
                <a:srgbClr val="ccffcc">
                  <a:alpha val="59215"/>
                </a:srgbClr>
              </a:gs>
              <a:gs pos="100000">
                <a:srgbClr val="ffffcc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ănătatea reprezintă nu numai lipsa boli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ci starea deplinei bunăstări fiz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spirituale şi soc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10080" y="762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10280" y="76212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24480" y="21337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327920"/>
            <a:ext cx="8407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”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Jum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ate din ceea ce m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ci te aju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s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tr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e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ş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ealal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jum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ate, 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î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 aju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pe doctor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 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 s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tr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asc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”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verb egipt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5120" y="380880"/>
            <a:ext cx="5019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sant</cp:lastModifiedBy>
  <dcterms:modified xsi:type="dcterms:W3CDTF">2010-09-08T06:02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